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C5F0-C7A0-4386-B3F4-CDF72D3DB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stry of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str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+ ions will be attracted to WHAT END of the water molecu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ions will be attracted to WHAT END of the water molecu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ances that don’t dissolve but separate into tiny pie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keeps the pieces suspended so they don’t settle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 &amp; Cytoplasm are 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hat don’t dissolve but separate into tiny pi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keeps the pieces suspended so they don’t settl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&amp; Cytoplasm are 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, Bases &amp; 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 water molecule in 550 million naturally dissociates into a Hydrogen Ion and a Hydroxid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ydrogen Ion          Hydroxid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                        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O    H+  +  O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, Bases &amp;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ater molecule in 550 million naturally dissociates into a Hydrogen Ion and a Hydrox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n          Hydrox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                      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   H+  +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cates the concentration of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s from 0 –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of 7 is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0 up to 7  acid … H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above 7 to 14  base… OH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pH unit represents a factor of 10X change in concen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stronger is a pH3 than a pH of 5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s the concentration of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s from 0 –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of 7 is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0 up to 7  acid … H+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above 7 to 14  base…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H unit represents a factor of 10X change in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stronger is a pH3 than a pH of 5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Acid = pH 1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in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number of OH-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cid = pH 1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in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number of OH-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Base = pH 11 –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in OH-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in number of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Base = pH 11 –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in OH-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in number of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s or bases that react with strong acids or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by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 sharp, sudden changes in pH (keep pH neutr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s or bases that react with strong acids or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by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sharp, sudden changes in pH (keep pH neutr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Charge –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no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n Equal number of p+ and 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s aren’t evenly distribu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Charge –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o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n Equal number of p+ and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s aren’t evenly dis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ater molecule is polar because there is an uneven distribution of electrons between the oxygen and hydrogen a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ater molecule is polar because there is an uneven distribution of electrons between the oxygen and hydrogen a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 water molecules act like magnets and attract each o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traction of the Hydrogen end (+) of one molecule for the Oxygen end (-) of another water molec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strong bonds that form between molecules (CO2, H2O,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 water molecules act like magnets and attract each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traction of the Hydrogen end (+) of one molecule for the Oxygen end (-) of another water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trong bonds that form between molecules (CO2, H2O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traction between molecules of the same substance (e.g. wat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 attracting other H2O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some insects and spiders to walk on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traction between molecules of the same substance (e.g. wat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attracting other H2O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some insects and spiders to walk o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hesion &amp; Capil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hesion - Attraction between H2O molecules and different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sion &amp; adhesion produce Capillarity (upward movement against gravity of water through small tub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How do plants make use of Capillar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on &amp; Capil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on - Attraction between H2O molecules and different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hesion &amp; adhesion produce Capillarity (upward movement against gravity of water through small tub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How do plants make use of Capillar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 &amp; 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usually part of a mix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 many things dissolve in water, it is called the Universal Sol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s of mixtur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&amp; 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usually part of a mix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so many things dissolve in water, it is called the Universal Sol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mix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compounds disperse as ions in water (+ions &amp; -ions spread out among polar water molecu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 are Evenly distributed mix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ance that is being dissol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ing Substance for the 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compounds disperse as ions in water (+ions &amp; -ions spread out among polar water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are Evenly distributed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that is being diss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ing Substance for the so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179A-EF4E-4290-9940-62C388DF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8068-FE98-4706-A87D-D54BECBD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6EDC-BFC3-45BD-8F95-BB5B69AF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D75B-A2FD-42B0-B6B0-4CA5A22D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3843-7948-4B29-A615-34F762ED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651E-9031-4579-9DA1-BF48B1E5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213F-40E7-438F-97F1-F49DE803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F80E-B6E6-4D15-A655-77037B9E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64C8-5C20-45F0-B33C-E1BE4230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5596-45C9-4E85-B269-F1B1A0A2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EDB3-326A-4674-BCA0-364B8EB9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C147-AD11-443A-806C-F251CD52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6413-FABC-40A2-82CA-89355A1B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8F2D-31B7-4452-A99B-8652F2B8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E77C-8871-4B08-8A0A-6AF71A5B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5B06-D811-4058-A5AA-05511528E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B564-5897-48BF-B4F1-48C79258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216C-14B7-436A-AD44-B2600C04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0F24-0884-44B1-B33B-9D573460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DB8C-2AEC-43A0-8B78-C73B0489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3104-3841-4938-803C-3BCCC2CC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44DE-A83D-48DF-A97B-4EEDD7BC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1FB4-B0FE-49C3-8EE3-40A93D89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358C-0924-450B-8441-95FDBF42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8894-20A7-4FE6-9E0D-9C61F390AE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CD0B-4A19-454E-9E21-0ABD1FD8E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294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Comic Sans MS"/>
              </a:rPr>
              <a:t>The Chemistry of Life</a:t>
            </a:r>
            <a:endParaRPr b="0" lang="en-US" sz="60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680" y="335268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Properties of Wa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Ionic Solut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pic>
        <p:nvPicPr>
          <p:cNvPr id="123" name="Picture 4" descr="nacl_dissolving"/>
          <p:cNvPicPr/>
          <p:nvPr/>
        </p:nvPicPr>
        <p:blipFill>
          <a:blip r:embed="rId1"/>
          <a:stretch/>
        </p:blipFill>
        <p:spPr>
          <a:xfrm>
            <a:off x="609480" y="1523880"/>
            <a:ext cx="8001000" cy="3875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09480" y="5638680"/>
            <a:ext cx="816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a+ ions will be attracted to WHAT END of the water molec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Suspens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s that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on’t dissolve but separate into tiny pie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te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keeps the pieces suspend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o they don’t settle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lood &amp; Cytoplasm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re susp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mayonaise"/>
          <p:cNvPicPr/>
          <p:nvPr/>
        </p:nvPicPr>
        <p:blipFill>
          <a:blip r:embed="rId1"/>
          <a:stretch/>
        </p:blipFill>
        <p:spPr>
          <a:xfrm>
            <a:off x="7238880" y="3886200"/>
            <a:ext cx="1613160" cy="2743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:\My Documents\My Pictures\180px-WaterAndFlourSuspensionLiquid.jpg"/>
          <p:cNvPicPr/>
          <p:nvPr/>
        </p:nvPicPr>
        <p:blipFill>
          <a:blip r:embed="rId2"/>
          <a:stretch/>
        </p:blipFill>
        <p:spPr>
          <a:xfrm>
            <a:off x="5105520" y="1219320"/>
            <a:ext cx="2286000" cy="39114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cids, Bases &amp; pH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 water molecule in 550 million naturally dissociates into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gen 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d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xide 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ydrogen Ion          Hydroxide 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cid </a:t>
            </a: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5800" y="3581280"/>
            <a:ext cx="746748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H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O  </a:t>
            </a:r>
            <a:r>
              <a:rPr b="0" lang="en-US" sz="4800" spc="-1" strike="noStrike">
                <a:solidFill>
                  <a:srgbClr val="ffffff"/>
                </a:solidFill>
                <a:latin typeface="Wingdings 3"/>
                <a:ea typeface="Wingdings 3"/>
              </a:rPr>
              <a:t>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 H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 Black"/>
              </a:rPr>
              <a:t>+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 +  OH</a:t>
            </a:r>
            <a:r>
              <a:rPr b="1" lang="en-US" sz="6600" spc="-1" strike="noStrike" baseline="34000">
                <a:solidFill>
                  <a:srgbClr val="ffffff"/>
                </a:solidFill>
                <a:latin typeface="Arial Black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"/>
          <p:cNvSpPr/>
          <p:nvPr/>
        </p:nvSpPr>
        <p:spPr>
          <a:xfrm flipV="1">
            <a:off x="3886200" y="4267080"/>
            <a:ext cx="304920" cy="6098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6858000" y="4190760"/>
            <a:ext cx="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pH Sca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dicates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oncentration of 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Ranges from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0 –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7 is 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0 up to 7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cid … H</a:t>
            </a:r>
            <a:r>
              <a:rPr b="1" lang="en-US" sz="3200" spc="-1" strike="noStrike" baseline="4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above 7 to 14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ase… OH</a:t>
            </a:r>
            <a:r>
              <a:rPr b="1" lang="en-US" sz="3200" spc="-1" strike="noStrike" baseline="34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ach pH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unit represents a factor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10X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change in concen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96920" y="5513400"/>
            <a:ext cx="856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How much stronger is a pH3 than a pH of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ci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trong Acid =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H 1-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igh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600" spc="-1" strike="noStrike" baseline="36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600" spc="-1" strike="noStrike" baseline="36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ower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umber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H-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pH_acid"/>
          <p:cNvPicPr/>
          <p:nvPr/>
        </p:nvPicPr>
        <p:blipFill>
          <a:blip r:embed="rId1"/>
          <a:stretch/>
        </p:blipFill>
        <p:spPr>
          <a:xfrm>
            <a:off x="4114800" y="1676520"/>
            <a:ext cx="4648320" cy="43448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Base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trong Base =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H 11 –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igh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H</a:t>
            </a:r>
            <a:r>
              <a:rPr b="1" lang="en-US" sz="3600" spc="-1" strike="noStrike" baseline="34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ower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number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+ 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pH_basic"/>
          <p:cNvPicPr/>
          <p:nvPr/>
        </p:nvPicPr>
        <p:blipFill>
          <a:blip r:embed="rId1"/>
          <a:stretch/>
        </p:blipFill>
        <p:spPr>
          <a:xfrm>
            <a:off x="4114800" y="1600200"/>
            <a:ext cx="4800600" cy="42609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Buffer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eak acids or bas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hat react with strong acids or ba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ade by the bo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vent sharp, sudden changes in pH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keep pH neutra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C:\My Documents\My Pictures\heinz-white-vinegar.jpg"/>
          <p:cNvPicPr/>
          <p:nvPr/>
        </p:nvPicPr>
        <p:blipFill>
          <a:blip r:embed="rId1"/>
          <a:stretch/>
        </p:blipFill>
        <p:spPr>
          <a:xfrm>
            <a:off x="2286000" y="4952880"/>
            <a:ext cx="1104840" cy="11052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19051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C:\My Documents\My Pictures\DawnLarge.jpg"/>
          <p:cNvPicPr/>
          <p:nvPr/>
        </p:nvPicPr>
        <p:blipFill>
          <a:blip r:embed="rId2"/>
          <a:stretch/>
        </p:blipFill>
        <p:spPr>
          <a:xfrm>
            <a:off x="56386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5410080" y="6095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Water Molecu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Neutral Charge – Z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Have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no char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Have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n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Equal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p+ and e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harges aren’t evenly distribu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Water Molecu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olar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water molecule is polar because there is a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uneven distribution of electr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between the oxygen and hydrogen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-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water_molecule"/>
          <p:cNvPicPr/>
          <p:nvPr/>
        </p:nvPicPr>
        <p:blipFill>
          <a:blip r:embed="rId1"/>
          <a:stretch/>
        </p:blipFill>
        <p:spPr>
          <a:xfrm>
            <a:off x="3352680" y="4191120"/>
            <a:ext cx="2667240" cy="2438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6400800" y="4952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590920" y="495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Hydrogen Bon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olar water molecule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ct like magnet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d attract each o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gen B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attraction of the Hydrogen end (+) of one molecule for the Oxygen end </a:t>
            </a: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(-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another water molec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y are strong bonds that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orm between molecules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, 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, …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Hydrogen Bon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pic>
        <p:nvPicPr>
          <p:cNvPr id="105" name="Picture 4" descr="water_lattice"/>
          <p:cNvPicPr/>
          <p:nvPr/>
        </p:nvPicPr>
        <p:blipFill>
          <a:blip r:embed="rId1"/>
          <a:stretch/>
        </p:blipFill>
        <p:spPr>
          <a:xfrm>
            <a:off x="2709720" y="1523880"/>
            <a:ext cx="4319640" cy="44197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Cohesion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attraction betwee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olecules of the same substanc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e.g. wat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attracting other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llows some insects and spiders to walk o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water_strider"/>
          <p:cNvPicPr/>
          <p:nvPr/>
        </p:nvPicPr>
        <p:blipFill>
          <a:blip r:embed="rId1"/>
          <a:stretch/>
        </p:blipFill>
        <p:spPr>
          <a:xfrm>
            <a:off x="5410080" y="1905120"/>
            <a:ext cx="3448080" cy="28065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dhesion &amp; Capillarity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dhes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- Attraction betwee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molecules and different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hesion &amp; adhesion produce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pillarity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upward movement against gravity of water through small tub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capillary_tube_b copy"/>
          <p:cNvPicPr/>
          <p:nvPr/>
        </p:nvPicPr>
        <p:blipFill>
          <a:blip r:embed="rId1"/>
          <a:stretch/>
        </p:blipFill>
        <p:spPr>
          <a:xfrm>
            <a:off x="5181480" y="4038480"/>
            <a:ext cx="2803680" cy="3005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990720" y="480060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uestion: How do plants make use of Capillar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Solutions &amp; Suspens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ter is usually part of a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ixtur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ecause so many things dissolve in water, it is called the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Universal Solv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re are two types of mixtur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lu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uspen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Properties of Solut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onic compound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disperse a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n water (+ions &amp; -ions spread out among polar water molecu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olutions ar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venly distribut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L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 that is being dissol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LV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ssolving Substance for the sol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04:37:26Z</dcterms:created>
  <dc:creator>Cheryl Massengale</dc:creator>
  <dc:description/>
  <dc:language>en-US</dc:language>
  <cp:lastModifiedBy>LEGION</cp:lastModifiedBy>
  <dcterms:modified xsi:type="dcterms:W3CDTF">2016-12-07T09:22:09Z</dcterms:modified>
  <cp:revision>18</cp:revision>
  <dc:subject/>
  <dc:title>water</dc:title>
</cp:coreProperties>
</file>